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6532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944280" y="74736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724280"/>
            <a:ext cx="548172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5840" y="9445320"/>
            <a:ext cx="296532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045A1-C4DE-41F0-A527-5D926EE9009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16227-1452-4A7A-992A-B8FA62B8CD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99D9D-17DE-4C84-B024-A25F85ADE5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EFFE3-A9AF-4E4B-8B92-A1944CE21F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83CDA-1ECA-45A6-AF7E-F630084F25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D93E3-A895-45F6-A06A-B0B628B10B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1D6EA-BE01-4158-91E8-F51BF3C7D6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6600A-D616-4A85-8896-174F179AE6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91E7D-DFC2-44E5-97FB-3AFB793565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897DE-68E9-4BD8-8D0B-FAAD4765DD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A3229-4601-492B-A7F3-95D013B2E2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52537-6966-4CBC-8AA3-917FA99D9C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B13C2-6EF5-45CB-8359-281762E32C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48290-60B7-4BCC-8E3B-4DED203B0F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D6EAF-6734-4CED-849A-59F1752E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7880F-06DE-43BC-A50C-28A532D6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EC1E2-8BD2-49EC-86E3-2CA19C8E94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CFF6D-D988-4A55-8A3E-4409F922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DAEA2-6F7A-4F82-A851-2372D9BC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C8CC4-A02F-4251-8D97-B837A249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28F79-F82D-4AD6-9C1A-F5F24970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B3B52-DEBE-4A3A-85B0-CF7676E0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5D0B8-6CD6-49B5-BE3C-0DBDDB46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DF3F4-FFA0-4BD2-A2D4-D235DBCC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39A0B-CE0B-4641-BBA6-D0041C1B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EAB3E-85C4-490A-8E67-F3564502620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3071880" cy="6858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1840" y="784080"/>
            <a:ext cx="8669160" cy="581364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960" y="1563840"/>
            <a:ext cx="808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аключении эффективного контракта  с работниками в государственных и муниципальных учрежд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70400" y="0"/>
            <a:ext cx="473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4906800"/>
            <a:ext cx="53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840" y="2706840"/>
            <a:ext cx="8489880" cy="354168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формление осуществляется путем заключения дополнительного соглашения к трудовому договору в порядке, установленном  ТК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ребуется предупреждение работника об изменении условий трудового договора  в письменном виде не менее, чем за 2 месяца. Основание - статья 74 ТК РФ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4880" y="363600"/>
            <a:ext cx="8520120" cy="1406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оформления трудовых отношений при введении эффективного контракта с работниками, состоящими в трудовых отношен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031280" y="2077200"/>
            <a:ext cx="1073160" cy="5191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308400" y="-316080"/>
            <a:ext cx="602784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2292480"/>
            <a:ext cx="8489880" cy="407484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полнительное соглашение к трудовому догово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омендуется заклю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мере разрабо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ателей и критериев оценки эффективности труда работников учреждения  для определения размеров и условий осуществления стимулирующих выпла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- пункт 5 Рекомендаций по оформлению трудовых отношений с работником государственного (муниципального) учреждения при введении эффективного контракта, утв. Приказом Минтруда РФ от 26 апреля 2013 г. № 167 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880" y="146160"/>
            <a:ext cx="8520120" cy="1377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оформления  дополнительных соглашений к трудовому договору в связи с введ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го кон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077720" y="1631160"/>
            <a:ext cx="777600" cy="5191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39680" y="128520"/>
            <a:ext cx="8866080" cy="836640"/>
            <a:chOff x="139680" y="128520"/>
            <a:chExt cx="8866080" cy="83664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139680" y="128520"/>
              <a:ext cx="88660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03040" y="189000"/>
              <a:ext cx="8747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egoe UI Symbol"/>
                </a:rPr>
                <a:t>Порядок организации работ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egoe UI Symbol"/>
                </a:rPr>
                <a:t>по введению в учреждении эффективного контракта с работник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8" name=""/>
          <p:cNvGraphicFramePr/>
          <p:nvPr/>
        </p:nvGraphicFramePr>
        <p:xfrm>
          <a:off x="282600" y="1060560"/>
          <a:ext cx="8567640" cy="5586480"/>
        </p:xfrm>
        <a:graphic>
          <a:graphicData uri="http://schemas.openxmlformats.org/drawingml/2006/table">
            <a:tbl>
              <a:tblPr/>
              <a:tblGrid>
                <a:gridCol w="8567640"/>
              </a:tblGrid>
              <a:tr h="119052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Создание  в учреждении комиссии или рабочей группы по организации работы, связанной с введением эффективного контрак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39596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.Организация разъяснительной работы  в трудовом коллективе по вопросам введения эффективного контрак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.Анализ действующих  трудовых договоров с работниками на предмет их соответствия требованиям ст. 57 ТК РФ и примерной формы трудового договора , в результате которого определяются трудовые договоры, в которые необходимо дополнить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-сведениями о работнике или работодател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-недостающими условиями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.Разработка органом местного самоуправления показателей эффективности деятельности государственных, муниципальных учреждений их руководителей и отдельных категорий работников показателей эффективности деятельности работников учреждения  тру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9680" y="128520"/>
            <a:ext cx="8866080" cy="836640"/>
            <a:chOff x="139680" y="128520"/>
            <a:chExt cx="8866080" cy="83664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139680" y="128520"/>
              <a:ext cx="88660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03040" y="189000"/>
              <a:ext cx="8747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egoe UI Symbol"/>
                </a:rPr>
                <a:t>Порядок организации работ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egoe UI Symbol"/>
                </a:rPr>
                <a:t>по введению в учреждении эффективного контракта с работник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262080" y="1071720"/>
          <a:ext cx="8678880" cy="5729040"/>
        </p:xfrm>
        <a:graphic>
          <a:graphicData uri="http://schemas.openxmlformats.org/drawingml/2006/table">
            <a:tbl>
              <a:tblPr/>
              <a:tblGrid>
                <a:gridCol w="8678880"/>
              </a:tblGrid>
              <a:tr h="487980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.Разработка изменений в  положение о выплатах стимулирующего характера с учетом разработанных показ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Изменения  принимаются в соответствии с требованиями ст. 135 ТК РФ- учитывается  мнение представительного органа работников, если иное не установлено в коллективном договоре учрежд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.Конкретизировать трудовую функцию работ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.Подготовить  изменения в трудовые договоры с работник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7 Уведомить работников в соответствии со ст. 74 ТК РФ письменно, не менее чем за 2 месяц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8.Внести изменения в трудовой догов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ВАЖНО</a:t>
                      </a: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–</a:t>
                      </a: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сю работу по введению эффективного контракта вести в обстановке гласности, обсуждения в трудовом коллекти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8492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4600" y="246240"/>
            <a:ext cx="8794800" cy="641016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йский р-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0520" y="1857240"/>
            <a:ext cx="8489880" cy="441324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рудовой договор с работником, в котором конкретизированы его должностные обязанности, условия оплаты труда, показатели и критерии оценки эффективности деятельности для назначения стимулирующих выплат в зависимости от результатов труда и качества оказываемых государственных (муниципальных) услуг, а также меры социальной поддерж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84440" y="347760"/>
            <a:ext cx="5761080" cy="958680"/>
          </a:xfrm>
          <a:prstGeom prst="ellipse">
            <a:avLst/>
          </a:prstGeom>
          <a:solidFill>
            <a:srgbClr val="ffff99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ффективный контра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286880" y="1327680"/>
            <a:ext cx="507960" cy="4651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1080" y="0"/>
            <a:ext cx="321444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3760" y="1017720"/>
            <a:ext cx="8850240" cy="567684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йский р-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22400" y="328680"/>
            <a:ext cx="8901000" cy="776160"/>
            <a:chOff x="122400" y="328680"/>
            <a:chExt cx="8901000" cy="7761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22400" y="328680"/>
              <a:ext cx="890100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81080" y="392040"/>
              <a:ext cx="878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авовая основа введения эффективного контракта в государственных и муниципальных учрежд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07960" y="1467000"/>
            <a:ext cx="8331120" cy="72360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Указ Президента РФ от 7 мая 2012 г. № 597 "О мероприятиях по реализации государственной социальной полити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4720" y="2438280"/>
            <a:ext cx="8413920" cy="89244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грамма поэтапного совершенствования системы оплаты труда  в государственных (муниципальных) учреждениях на 2012 - 2018 годы,  утв.  распоряжением Правительства РФ от 26.11. 2012 г. № 2190-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6800" y="3589200"/>
            <a:ext cx="8444160" cy="101628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Приказ Минтруда России №167н от 26 апреля 2013 г. «Об утверждении рекомендаций по оформлению трудовых отношений с работником государственного (муниципального) учреждения при введении эффективного контракт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800000">
            <a:off x="444240" y="4971960"/>
            <a:ext cx="8413560" cy="147816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остановление Администрации района от 19.08.2014 г. № 151 «Об утверждении плана мероп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иятий («дорожная карта»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1479600"/>
            <a:ext cx="8196120" cy="515772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йский р-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4120" y="1365120"/>
            <a:ext cx="8489880" cy="527220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вышение оплаты труда с учетом достижений конкретных показателей качества, оказываемых государственных (муниципальных) услуг на основ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Введения взаимоувязанной системы отраслевых показателей эффек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Установления соответствующих показателям  эффективности стимулирующих выплат, критериев и условий их назначения с отражением в примерных положениях об оплате труда работников учреждений, коллективных договорах, трудовых договор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Отмены неэффективных стимулирующих выпла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 Использования при оценке достижения конкретных показателей качества и количества оказываемых государственных (муниципальных) услуг (выполнения работ) независимой системы оценки качества работы учреждений, включающей кроме критериев эффективности их работы и введение публичных рейтингов их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3800" y="135000"/>
            <a:ext cx="7684920" cy="892080"/>
          </a:xfrm>
          <a:prstGeom prst="ellipse">
            <a:avLst/>
          </a:prstGeom>
          <a:solidFill>
            <a:srgbClr val="ffff99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введения эффективного контр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4600" y="1044720"/>
            <a:ext cx="8794800" cy="561168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оформления трудовых отношений с работниками с использованием принципов эффективного контракта примен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мерная форма трудового догов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приложение №3 к Программе поэтапного совершенств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стемы оплаты труда.)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9680" y="201600"/>
            <a:ext cx="8834400" cy="836640"/>
            <a:chOff x="139680" y="201600"/>
            <a:chExt cx="8834400" cy="836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39680" y="201600"/>
              <a:ext cx="88344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03040" y="262080"/>
              <a:ext cx="871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положения Рекомендаций по оформлению трудовых отношений с работниками при введении эффективного контра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725400" y="2801880"/>
            <a:ext cx="3846600" cy="1305000"/>
          </a:xfrm>
          <a:custGeom>
            <a:avLst/>
            <a:gdLst>
              <a:gd name="textAreaLeft" fmla="*/ 0 w 3846600"/>
              <a:gd name="textAreaRight" fmla="*/ 3846960 w 3846600"/>
              <a:gd name="textAreaTop" fmla="*/ 0 h 1305000"/>
              <a:gd name="textAreaBottom" fmla="*/ 1305360 h 13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6" y="0"/>
                </a:lnTo>
                <a:lnTo>
                  <a:pt x="21600" y="10800"/>
                </a:lnTo>
                <a:lnTo>
                  <a:pt x="179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ник, поступа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рабо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3440" y="4543560"/>
            <a:ext cx="3911400" cy="1552320"/>
          </a:xfrm>
          <a:custGeom>
            <a:avLst/>
            <a:gdLst>
              <a:gd name="textAreaLeft" fmla="*/ 0 w 3911400"/>
              <a:gd name="textAreaRight" fmla="*/ 3911760 w 3911400"/>
              <a:gd name="textAreaTop" fmla="*/ 0 h 1552320"/>
              <a:gd name="textAreaBottom" fmla="*/ 1552680 h 15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13" y="0"/>
                </a:lnTo>
                <a:lnTo>
                  <a:pt x="21600" y="10800"/>
                </a:lnTo>
                <a:lnTo>
                  <a:pt x="173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ник, работающий в учрежден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19760" y="2684520"/>
            <a:ext cx="3759120" cy="14810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удовой договор по примерной форме (эффективный контракт)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8120" y="4470480"/>
            <a:ext cx="3932280" cy="16682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олнительное соглаш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трудовому договор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 изменении его                     условий( в соответствии с примерной форм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0" y="755640"/>
            <a:ext cx="8794800" cy="566748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7440" y="174600"/>
            <a:ext cx="8723520" cy="7038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азработки трудового догово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принципов эффективного контр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25560" y="1036800"/>
            <a:ext cx="3395880" cy="49356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54360" y="3635280"/>
            <a:ext cx="3048120" cy="259560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1.Трудовую функци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2.Показатели и критерии оценки эффективности дея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3. Размер  и условия стимулиру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ыплат,  определ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с учетом рекомендуемых показ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95640" y="1922400"/>
            <a:ext cx="2700360" cy="1656000"/>
          </a:xfrm>
          <a:prstGeom prst="downArrowCallout">
            <a:avLst>
              <a:gd name="adj1" fmla="val 25006"/>
              <a:gd name="adj2" fmla="val 24996"/>
              <a:gd name="adj3" fmla="val 25000"/>
              <a:gd name="adj4" fmla="val 64977"/>
            </a:avLst>
          </a:prstGeom>
          <a:solidFill>
            <a:srgbClr val="fdeada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отношении каждого работника уточнить и конкретизиров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84720" y="1886040"/>
            <a:ext cx="3059280" cy="29001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ть должностные обязанности работника непосредственно в тексте трудового договора,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 с учетом действующих обязанностей, установленных должностной инструк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746360" y="1494000"/>
            <a:ext cx="971280" cy="387360"/>
          </a:xfrm>
          <a:prstGeom prst="line">
            <a:avLst/>
          </a:prstGeom>
          <a:ln cap="sq"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13600" y="1360440"/>
            <a:ext cx="1276200" cy="363600"/>
          </a:xfrm>
          <a:prstGeom prst="line">
            <a:avLst/>
          </a:prstGeom>
          <a:ln cap="sq"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6800" y="1981080"/>
            <a:ext cx="2043360" cy="2805120"/>
          </a:xfrm>
          <a:custGeom>
            <a:avLst/>
            <a:gdLst>
              <a:gd name="textAreaLeft" fmla="*/ 99720 w 2043360"/>
              <a:gd name="textAreaRight" fmla="*/ 1943640 w 2043360"/>
              <a:gd name="textAreaTop" fmla="*/ 99720 h 2805120"/>
              <a:gd name="textAreaBottom" fmla="*/ 2705400 h 2805120"/>
            </a:gdLst>
            <a:ahLst/>
            <a:rect l="textAreaLeft" t="textAreaTop" r="textAreaRight" b="textAreaBottom"/>
            <a:pathLst>
              <a:path w="21600" h="29651">
                <a:moveTo>
                  <a:pt x="3600" y="0"/>
                </a:moveTo>
                <a:arcTo wR="3600" hR="3600" stAng="16200000" swAng="-5400000"/>
                <a:lnTo>
                  <a:pt x="0" y="26051"/>
                </a:lnTo>
                <a:arcTo wR="3600" hR="3600" stAng="10800000" swAng="-5400000"/>
                <a:lnTo>
                  <a:pt x="18000" y="296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eada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овать Пример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у трудового догов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ст. 57 ТК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437000" y="1590480"/>
            <a:ext cx="3240" cy="253800"/>
          </a:xfrm>
          <a:prstGeom prst="line">
            <a:avLst/>
          </a:prstGeom>
          <a:ln cap="sq"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4600" y="685800"/>
            <a:ext cx="8794800" cy="594036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58760" y="109440"/>
            <a:ext cx="8834400" cy="532080"/>
            <a:chOff x="158760" y="109440"/>
            <a:chExt cx="8834400" cy="53208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58760" y="109440"/>
              <a:ext cx="8834400" cy="5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17440" y="174600"/>
              <a:ext cx="871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дел трудового договора IV. Оплата тру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2880" y="857160"/>
            <a:ext cx="7915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 За выполнение трудовых обязанностей, предусмотренных настоящим трудов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ом, работнику устанавливается заработная плата в размер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) должностной оклад, ставка заработной платы _________ рублей в меся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 работнику производятся выплаты компенсационного харак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15880" y="2000160"/>
          <a:ext cx="7996320" cy="88740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2665440"/>
              </a:tblGrid>
              <a:tr h="658800">
                <a:tc>
                  <a:txBody>
                    <a:bodyPr lIns="9360" rIns="9360" tIns="5760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вы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760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 вы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760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, обусловливающий получение вы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567360" y="3044520"/>
            <a:ext cx="630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в) работнику производятся выплаты стимулирующего харак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15880" y="3448080"/>
          <a:ext cx="7953480" cy="1160280"/>
        </p:xfrm>
        <a:graphic>
          <a:graphicData uri="http://schemas.openxmlformats.org/drawingml/2006/table">
            <a:tbl>
              <a:tblPr/>
              <a:tblGrid>
                <a:gridCol w="1581120"/>
                <a:gridCol w="1600200"/>
                <a:gridCol w="2102040"/>
                <a:gridCol w="1349280"/>
                <a:gridCol w="1320840"/>
              </a:tblGrid>
              <a:tr h="895320"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выпла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и критерии оценки эффективности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ич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98600" y="4718160"/>
            <a:ext cx="8021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 Выплата заработной платы работнику производится в сроки и порядке, которые установлены трудовым договором, коллективным договором и правилами внутреннего трудового распоряд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 На работника распространяются льготы, гарантии и компенсации, установлен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ством РФ, нормативными правовыми актами субъектов РФ, коллективным договором и локальными нормативными ак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7440" y="1103400"/>
            <a:ext cx="8751960" cy="552276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39680" y="109440"/>
            <a:ext cx="8834400" cy="611280"/>
            <a:chOff x="139680" y="109440"/>
            <a:chExt cx="8834400" cy="61128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139680" y="109440"/>
              <a:ext cx="883440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03040" y="189000"/>
              <a:ext cx="87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комендуемый перечень стимулирующих выплат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420840" y="1239840"/>
          <a:ext cx="8229600" cy="5230800"/>
        </p:xfrm>
        <a:graphic>
          <a:graphicData uri="http://schemas.openxmlformats.org/drawingml/2006/table">
            <a:tbl>
              <a:tblPr/>
              <a:tblGrid>
                <a:gridCol w="3294000"/>
                <a:gridCol w="4935600"/>
              </a:tblGrid>
              <a:tr h="1389240"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выплаты за интенсивность и высокие результаты работ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дбавка за интенсивность труд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за высокие результаты работ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за выполнение особо важных и ответственных рабо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711080"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выплаты за качество выполняемых рабо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дбавка за наличие квалификационной категор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за образцовое выполнение государственного (муниципального) задания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1065240"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выплаты за стаж непрерывной работы, выслугу ле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дбавка за выслугу лет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дбавка за стаж непрерывной работ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065240"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премиальные выплаты по итогам работ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по итогам работы за месяц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по итогам работы за кварта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по итогам работы за год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246240"/>
            <a:ext cx="8794800" cy="641016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йский р-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0520" y="770040"/>
            <a:ext cx="8489880" cy="550044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сновной принцип при разработке показателей для определения размеров стимулирующих выплат – порядок и условия  установления стимулирующих выплат должны быть понятны работодателю и работнику и не допускать двойного толк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4:44:06Z</dcterms:created>
  <dc:creator>Лёвкина</dc:creator>
  <dc:description/>
  <dc:language>en-US</dc:language>
  <cp:lastModifiedBy>Admin</cp:lastModifiedBy>
  <dcterms:modified xsi:type="dcterms:W3CDTF">2014-03-20T07:38:32Z</dcterms:modified>
  <cp:revision>1768</cp:revision>
  <dc:subject/>
  <dc:title>Слайд 1</dc:title>
</cp:coreProperties>
</file>